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6.pct" ContentType="image/x-pict"/>
  <Override PartName="/ppt/media/image7.pct" ContentType="image/x-pict"/>
  <Override PartName="/ppt/media/image8.pct" ContentType="image/x-pict"/>
  <Override PartName="/ppt/media/image9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6ACF2-7D3B-4890-A15A-ED8871C8F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32B60-C23B-4A66-BF88-5A1F168E4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7C0DE-887E-46F7-8143-18DB1ECCD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3F2FD-D2C7-4165-8972-7473AB706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07B9F-A1A7-4D83-8F20-8F9AB8DC6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4BF12-FC8F-4A3E-98CB-B96DCDF31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EE48A-5183-4E43-9054-789FC09E9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E8472-9035-413A-9C34-28F9BD730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C9808-97F0-46C9-A3D1-E51241EBE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90C93-9B0B-4393-9524-2414B53BC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44A5D-6386-4B2F-A38F-5C7837BBB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68116-DC15-48F7-9557-C321F60FD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8A27A-40EB-4998-8038-E41CC8C16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FE53B-9AE7-43E7-8472-EB2E5C270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0EB70-3238-4F2A-B3B7-B9E4D9161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FDD6E-2E51-4C95-A408-A78D92432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10C1A-D2C0-4215-9E32-9CBAAABF8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EE434-4E04-4FB7-858C-CD42DB9BE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F8DCE-8160-4674-89DD-DDCA19CB0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8765C-FAAA-4A86-BAAB-9EC1F33F3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745EE-247B-4A1F-8AAE-09A620CCD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1197A-CBA9-4062-B51C-83AB1DEDD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30C2B-88A8-47DD-AB91-6AA9CDF2C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556ED-362A-48B2-A43E-624A466AB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83" dir="10216345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83" dir="10216345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rebuchet MS"/>
                <a:ea typeface="ヒラギノ角ゴ Pro W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rebuchet MS"/>
                <a:ea typeface="ヒラギノ角ゴ Pro W3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rebuchet MS"/>
                <a:ea typeface="ヒラギノ角ゴ Pro W3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rebuchet MS"/>
                <a:ea typeface="ヒラギノ角ゴ Pro W3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rebuchet MS"/>
                <a:ea typeface="ヒラギノ角ゴ Pro W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76CAC-933D-484C-B2CC-0E65FFB6ED56}" type="slidenum">
              <a:rPr b="0" lang="en-US" sz="1400" spc="-1" strike="noStrike">
                <a:solidFill>
                  <a:srgbClr val="ffffff"/>
                </a:solidFill>
                <a:latin typeface="Trebuchet MS"/>
                <a:ea typeface="ヒラギノ角ゴ Pro W3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55320" y="1371240"/>
            <a:ext cx="6629400" cy="2057400"/>
          </a:xfrm>
          <a:prstGeom prst="rect">
            <a:avLst/>
          </a:prstGeom>
          <a:noFill/>
          <a:ln w="0">
            <a:noFill/>
          </a:ln>
          <a:effectLst>
            <a:outerShdw dist="12783" dir="10216345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rebuchet MS"/>
                <a:ea typeface="ヒラギノ角ゴ Pro W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rebuchet MS"/>
                <a:ea typeface="ヒラギノ角ゴ Pro W3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rebuchet MS"/>
                <a:ea typeface="ヒラギノ角ゴ Pro W3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rebuchet MS"/>
                <a:ea typeface="ヒラギノ角ゴ Pro W3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rebuchet MS"/>
                <a:ea typeface="ヒラギノ角ゴ Pro W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7888F-1311-4972-AFBF-908D09E8EE71}" type="slidenum">
              <a:rPr b="0" lang="en-US" sz="1400" spc="-1" strike="noStrike">
                <a:solidFill>
                  <a:srgbClr val="ffffff"/>
                </a:solidFill>
                <a:latin typeface="Trebuchet MS"/>
                <a:ea typeface="ヒラギノ角ゴ Pro W3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ct"/><Relationship Id="rId3" Type="http://schemas.openxmlformats.org/officeDocument/2006/relationships/image" Target="../media/image4.pct"/><Relationship Id="rId4" Type="http://schemas.openxmlformats.org/officeDocument/2006/relationships/package" Target="../embeddings/oleObject1.docx"/><Relationship Id="rId5" Type="http://schemas.openxmlformats.org/officeDocument/2006/relationships/image" Target="../media/image5.pct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ct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ct"/><Relationship Id="rId3" Type="http://schemas.openxmlformats.org/officeDocument/2006/relationships/image" Target="../media/image9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0" y="-1260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 txBox="1"/>
          <p:nvPr/>
        </p:nvSpPr>
        <p:spPr>
          <a:xfrm>
            <a:off x="2590920" y="2590920"/>
            <a:ext cx="40384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36147" dir="2700000" blurRad="0" rotWithShape="0">
                    <a:srgbClr val="990000"/>
                  </a:outerShdw>
                </a:effectLst>
                <a:latin typeface="American Typewriter"/>
              </a:rPr>
              <a:t>The Mensheviks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36147" dir="2700000" blurRad="0" rotWithShape="0">
                  <a:srgbClr val="990000"/>
                </a:outerShdw>
              </a:effectLst>
              <a:latin typeface="American Typewriter"/>
              <a:ea typeface="American Typewriter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3657600" y="4267080"/>
            <a:ext cx="1841400" cy="125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1903-1917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83" dir="10216345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Who were they?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12783" dir="10216345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Mensheviks means minority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Leaders: Julius Martov (top), Pavel Axelrod (left), Alexander Martinov (right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Originally part of the Social Democratic Labor Party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867280" y="1981080"/>
            <a:ext cx="1739880" cy="243864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5105520" y="4419720"/>
            <a:ext cx="1747800" cy="2438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8" name=""/>
          <p:cNvGraphicFramePr/>
          <p:nvPr/>
        </p:nvGraphicFramePr>
        <p:xfrm>
          <a:off x="6858000" y="4419720"/>
          <a:ext cx="1447920" cy="243828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858000" y="4419720"/>
                    <a:ext cx="1447920" cy="24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83" dir="10216345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How were they formed?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12783" dir="10216345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merican Typewriter"/>
              </a:rPr>
              <a:t>An argument occurred between two of the Social Democratic Labor Party leaders (Vladimir Lenin, Julius Martov)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332640" indent="-3326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merican Typewriter"/>
              </a:rPr>
              <a:t>When?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332640" indent="-3326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merican Typewriter"/>
              </a:rPr>
              <a:t>During congress at London in 1903 on how to bring about the revolution. 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332640" indent="-3326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merican Typewriter"/>
              </a:rPr>
              <a:t>Martov won the vote and Lenin formed his own group instead.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5181480" y="1752480"/>
            <a:ext cx="321624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83" dir="10216345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Beliefs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12783" dir="10216345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merican Typewriter"/>
              </a:rPr>
              <a:t>Large party of activists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merican Typewriter"/>
              </a:rPr>
              <a:t>Menshevik vision: democratic revolution where they were part of the government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merican Typewriter"/>
              </a:rPr>
              <a:t>Based ideas on other European Socialist Parties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merican Typewriter"/>
              </a:rPr>
              <a:t>Believed Russia was not developed enough for socialism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merican Typewriter"/>
              </a:rPr>
              <a:t>Difference from Bolshevism: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merican Typewriter"/>
              </a:rPr>
              <a:t>small party of professional revolutionaries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merican Typewriter"/>
              </a:rPr>
              <a:t>Working class should lead the revolution with the peasantry to create a democratic dictatorship of working classes, peasantry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4572000" y="2362320"/>
            <a:ext cx="45720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83" dir="10216345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Events after the 1903 Split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12783" dir="10216345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merican Typewriter"/>
              </a:rPr>
              <a:t>Many Mensheviks left the party after the 1905 revolution failure to join more legal organizations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merican Typewriter"/>
              </a:rPr>
              <a:t>The Bolsheviks tried to take control of the SDLP during conference on January 1912. This was unsuccessful and the Mensheviks split completely from the Bolsheviks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merican Typewriter"/>
              </a:rPr>
              <a:t>The Mensheviks lost the support of the Russian people during the events of 1917, obtaining the lowest amount of votes at the election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6400800" y="5059440"/>
            <a:ext cx="2743200" cy="179856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4724280" y="1752480"/>
            <a:ext cx="4419720" cy="330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ulwich</cp:lastModifiedBy>
  <dcterms:modified xsi:type="dcterms:W3CDTF">2007-09-18T01:19:45Z</dcterms:modified>
  <cp:revision>2</cp:revision>
  <dc:subject/>
  <dc:title>PowerPoint Presentation</dc:title>
</cp:coreProperties>
</file>